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6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6.png" ContentType="image/png"/>
  <Override PartName="/ppt/media/image39.png" ContentType="image/png"/>
  <Override PartName="/ppt/media/image31.png" ContentType="image/png"/>
  <Override PartName="/ppt/media/image43.png" ContentType="image/png"/>
  <Override PartName="/ppt/media/image35.png" ContentType="image/png"/>
  <Override PartName="/ppt/media/image5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B50C-D263-45BF-8BD7-47B5B4194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DEC0-E031-48EE-91C0-8CB2A27CE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0A11-ED41-4A5D-8A29-3C67D2A8A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3B8B-B91B-40C6-84D3-4DED1C76F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01FF-F394-4052-83DB-A20B0E2C5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FFCF-B50B-424D-A345-6E3B3B50D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0643-863C-48B1-ADD1-7ECEC0FD1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8270-46F8-4628-A4BB-113D04519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2869-D86F-4389-820F-37A6960B2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9271-2074-4E1C-980A-7EA2108C3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6AED-156E-4103-87FF-605D25186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476A-BA8B-40D5-8A6C-849D80F47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9D2B-9BD2-423E-8F93-9B91AA36A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7752-5A05-4D4D-900A-21FBCFCA0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2D45-09DC-4FF0-8732-6A506A42F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4B43-C9ED-4C77-84E8-B4D0BB7CC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563C-D9CF-4EF5-9DC6-595D63A73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67D4-3E15-4C2C-846A-FE70EAB1A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A4F7-C404-4349-A915-0E322B144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1FF4-301E-4160-B06D-E69379AB0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87C0-1B53-4723-A0E3-B0548DCF0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ABDB-6788-4F15-B881-71FA06739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A47D-41A5-443C-88AC-956924896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E03D-488A-4753-9221-52084A2AF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8853-151D-4517-A729-18F896F15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F72C-2A24-451A-94AC-B770BDDA0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AFC8-8BF7-4B93-9660-2FEA75C50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C9DB-B781-4C8E-ABC2-48143BAA7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B87E-07EC-4536-A668-8D1FB7477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2A86-7A64-45A6-B6EA-8FFE44C30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2916-FD8B-438D-AAC2-CB3529434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449B-96CC-4C97-B00A-9055FE8DE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3681-BCC4-4570-A004-68122B22E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B2D5-4284-4F99-B87B-6F2E60100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8ACB-6B32-4832-9432-D09F6AFD3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E6BE-39E8-40F7-9076-E73D814BE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0C4A-7837-4ECA-BEFD-32CFF5823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EE87-048E-4986-B8F9-4716BEDB3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4E0C-9A0E-4E9B-A6BD-A1F1EF3CA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C64A-A307-4B97-A26F-B2CD356BE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9D66-929C-4CC2-A451-8A6AA9369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BB8F-3A41-45B1-BC37-ED959873A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1946-F416-4B99-B4FD-D34461015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6E47-B62E-4EC4-9D58-3E88E4F97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9112-3786-4A40-BE35-88A209F5D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F740-EC0E-4A92-B1D8-0BF170D98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46AD-2F9A-49C1-B10F-0AB2BAAC2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2262-6A3C-4091-BE1A-7CEBEA5F0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ADDC-E027-43AC-B5D5-40C8611C0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E6B5-8F2E-4E27-8BD2-4B69B46BA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BF7B-9524-4465-ABF8-A6B72688B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F9EA-7807-4DE7-9EBA-F42140292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B6B-2F19-4923-8195-9F95B38F0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BF57-DCA2-433A-93BF-04686BEA7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5EB4-9425-4F71-A272-F6D1FA2CA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06D7-5C66-45A0-B92F-80EAD6590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B288-3ECD-4C8B-97E2-4967E9497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7C0-35E7-4C8F-88D9-14EE5660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832-8468-49AE-8519-E5A898F3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08F-E778-4D2E-844F-908788A1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A85-09D3-4E8B-A97F-4F6A1457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8F5-DF31-49C3-A69D-89058CDE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1DD-B6D2-49DF-BBC6-9CB850DC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5C1-8FB7-49BA-A3BD-C71A4D68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D72-D460-41DB-8824-81B50A22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733-A8D9-4EA4-BC6C-B865D1F4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D9B-8D64-442C-90F6-EF5F0F29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C65-4FC8-4652-98F4-5210514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1E7-019B-4AEB-BD9E-0829F4F3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1C29-4D66-4969-87E0-D538A9A63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italywinsworldcup.jpg"/>
          <p:cNvPicPr/>
          <p:nvPr/>
        </p:nvPicPr>
        <p:blipFill>
          <a:blip r:embed="rId1"/>
          <a:stretch/>
        </p:blipFill>
        <p:spPr>
          <a:xfrm>
            <a:off x="380880" y="1295280"/>
            <a:ext cx="386244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usseinsentenced.bmp"/>
          <p:cNvPicPr/>
          <p:nvPr/>
        </p:nvPicPr>
        <p:blipFill>
          <a:blip r:embed="rId2"/>
          <a:stretch/>
        </p:blipFill>
        <p:spPr>
          <a:xfrm>
            <a:off x="4419720" y="1828800"/>
            <a:ext cx="432756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ckinass.bmp"/>
          <p:cNvPicPr/>
          <p:nvPr/>
        </p:nvPicPr>
        <p:blipFill>
          <a:blip r:embed="rId3"/>
          <a:stretch/>
        </p:blipFill>
        <p:spPr>
          <a:xfrm>
            <a:off x="1143000" y="3809880"/>
            <a:ext cx="32511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ular Culture Celebrates Returning Her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bestyears.jpg"/>
          <p:cNvPicPr/>
          <p:nvPr/>
        </p:nvPicPr>
        <p:blipFill>
          <a:blip r:embed="rId1"/>
          <a:stretch/>
        </p:blipFill>
        <p:spPr>
          <a:xfrm>
            <a:off x="914400" y="175248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bestyears2.jpg"/>
          <p:cNvPicPr/>
          <p:nvPr/>
        </p:nvPicPr>
        <p:blipFill>
          <a:blip r:embed="rId2"/>
          <a:stretch/>
        </p:blipFill>
        <p:spPr>
          <a:xfrm>
            <a:off x="1371600" y="3733920"/>
            <a:ext cx="1714680" cy="2666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wonderfullife.bmp"/>
          <p:cNvPicPr/>
          <p:nvPr/>
        </p:nvPicPr>
        <p:blipFill>
          <a:blip r:embed="rId3"/>
          <a:stretch/>
        </p:blipFill>
        <p:spPr>
          <a:xfrm>
            <a:off x="6934320" y="1752480"/>
            <a:ext cx="1704960" cy="252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arrybailey.bmp"/>
          <p:cNvPicPr/>
          <p:nvPr/>
        </p:nvPicPr>
        <p:blipFill>
          <a:blip r:embed="rId4"/>
          <a:stretch/>
        </p:blipFill>
        <p:spPr>
          <a:xfrm>
            <a:off x="4038480" y="1676520"/>
            <a:ext cx="2552760" cy="2760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3352680" y="4572000"/>
            <a:ext cx="5410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of the top contenders for Best Picture at the 1946 Academy Awards prominently feature returning veter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est Years of Our Lives” edges out “It’s A Wonderful Life” for Best Pi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’s A Wonderful Life” remains one of the most beloved movies of all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Refr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major domestic challenge of the decade leading up to World War I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he Great Depress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’s exuberance at the end of the war is tempered by fears that America will slide back into a depression after the war.  The Federal government interven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.I. Bill Provides Returning Soldier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ey to attend college or trade scho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20 a week of unemployment for up to 52 wee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vernment backed guaranteed home lo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the G.I. B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ge boom in new home construction as millions of veterans take advantage of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of this growth takes place outside of older, established 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y do you think that returning veterans would choose to live in suburbs instead of citi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sons for the Growth of the Subur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s increasingly desired “a place of their own” with more space and fewer neighbors packed closely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t up demand from the Great Depression.  Americans had gone without new things for so long that demand for goods and services explodes after the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of Cars on the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945: 26 mill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960: 60 mill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hevy.jpg"/>
          <p:cNvPicPr/>
          <p:nvPr/>
        </p:nvPicPr>
        <p:blipFill>
          <a:blip r:embed="rId1"/>
          <a:stretch/>
        </p:blipFill>
        <p:spPr>
          <a:xfrm>
            <a:off x="1143000" y="3962520"/>
            <a:ext cx="2971800" cy="223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hevy2.jpg"/>
          <p:cNvPicPr/>
          <p:nvPr/>
        </p:nvPicPr>
        <p:blipFill>
          <a:blip r:embed="rId2"/>
          <a:stretch/>
        </p:blipFill>
        <p:spPr>
          <a:xfrm>
            <a:off x="5181480" y="3909960"/>
            <a:ext cx="30607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wth of the Subu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ustrated by his inability to find a reasonably priced place to stay in Washington D.C., homebuilder Kemmons Wilson decides to open a chain of hotels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holiday inn.jpg"/>
          <p:cNvPicPr/>
          <p:nvPr/>
        </p:nvPicPr>
        <p:blipFill>
          <a:blip r:embed="rId1"/>
          <a:stretch/>
        </p:blipFill>
        <p:spPr>
          <a:xfrm>
            <a:off x="2590920" y="4267080"/>
            <a:ext cx="38289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anchise Busi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1950’s saw an explosion of chain-store businessess.  Many of these new businesses we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anch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anchis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siness where goods or services are distributed through outlets owned by individual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anchise Busin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firstmcdonalds.bmp"/>
          <p:cNvPicPr/>
          <p:nvPr/>
        </p:nvPicPr>
        <p:blipFill>
          <a:blip r:embed="rId1"/>
          <a:stretch/>
        </p:blipFill>
        <p:spPr>
          <a:xfrm>
            <a:off x="304920" y="1219320"/>
            <a:ext cx="4167000" cy="3278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oldtacobell.jpg"/>
          <p:cNvPicPr/>
          <p:nvPr/>
        </p:nvPicPr>
        <p:blipFill>
          <a:blip r:embed="rId2"/>
          <a:stretch/>
        </p:blipFill>
        <p:spPr>
          <a:xfrm>
            <a:off x="4495680" y="2666880"/>
            <a:ext cx="4038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idential Surviv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mitt.jpg"/>
          <p:cNvPicPr/>
          <p:nvPr/>
        </p:nvPicPr>
        <p:blipFill>
          <a:blip r:embed="rId1"/>
          <a:stretch/>
        </p:blipFill>
        <p:spPr>
          <a:xfrm>
            <a:off x="533520" y="1371600"/>
            <a:ext cx="2057400" cy="2536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newt.jpg"/>
          <p:cNvPicPr/>
          <p:nvPr/>
        </p:nvPicPr>
        <p:blipFill>
          <a:blip r:embed="rId2"/>
          <a:stretch/>
        </p:blipFill>
        <p:spPr>
          <a:xfrm>
            <a:off x="6248520" y="15238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antorum.jpg"/>
          <p:cNvPicPr/>
          <p:nvPr/>
        </p:nvPicPr>
        <p:blipFill>
          <a:blip r:embed="rId3"/>
          <a:stretch/>
        </p:blipFill>
        <p:spPr>
          <a:xfrm>
            <a:off x="685800" y="4038480"/>
            <a:ext cx="205740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paul.jpg"/>
          <p:cNvPicPr/>
          <p:nvPr/>
        </p:nvPicPr>
        <p:blipFill>
          <a:blip r:embed="rId4"/>
          <a:stretch/>
        </p:blipFill>
        <p:spPr>
          <a:xfrm>
            <a:off x="6172200" y="420516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gop.jpg"/>
          <p:cNvPicPr/>
          <p:nvPr/>
        </p:nvPicPr>
        <p:blipFill>
          <a:blip r:embed="rId5"/>
          <a:stretch/>
        </p:blipFill>
        <p:spPr>
          <a:xfrm>
            <a:off x="3352680" y="4343400"/>
            <a:ext cx="2295720" cy="1990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survivor.jpg"/>
          <p:cNvPicPr/>
          <p:nvPr/>
        </p:nvPicPr>
        <p:blipFill>
          <a:blip r:embed="rId6"/>
          <a:stretch/>
        </p:blipFill>
        <p:spPr>
          <a:xfrm>
            <a:off x="2819520" y="1676520"/>
            <a:ext cx="32083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h&amp;k white castle.jpg"/>
          <p:cNvPicPr/>
          <p:nvPr/>
        </p:nvPicPr>
        <p:blipFill>
          <a:blip r:embed="rId1"/>
          <a:stretch/>
        </p:blipFill>
        <p:spPr>
          <a:xfrm>
            <a:off x="1295280" y="533520"/>
            <a:ext cx="648360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sons for the Growth of the Subur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ical advances in construction allowed builders to mass produce suburban housing cheaply using the same floor plan and specialized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es that used to take months to build could now be built in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ve starved couples, separated by war, were finally reunited.  This led to 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by Boo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ontent Placeholder 3" descr="babyboom2.jpg"/>
          <p:cNvPicPr/>
          <p:nvPr/>
        </p:nvPicPr>
        <p:blipFill>
          <a:blip r:embed="rId1"/>
          <a:stretch/>
        </p:blipFill>
        <p:spPr>
          <a:xfrm>
            <a:off x="228600" y="1371600"/>
            <a:ext cx="4429080" cy="26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babyboom.bmp"/>
          <p:cNvPicPr/>
          <p:nvPr/>
        </p:nvPicPr>
        <p:blipFill>
          <a:blip r:embed="rId2"/>
          <a:stretch/>
        </p:blipFill>
        <p:spPr>
          <a:xfrm>
            <a:off x="4648320" y="1295280"/>
            <a:ext cx="4379760" cy="2806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304920" y="41911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1945 and 1960, the U.S. averaged about 4 million births per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remains the largest population increase in American his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aby Boom generation would go on to become profoundly influential in American 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by Boomers are beginning to retire…your generation will pay for their retirement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state Highway 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438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1956, President Eisenhower signs the Interstate Highway 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s 41,000 miles of high-speed highways modeled after Germany’s autobah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s main objective was to ease transportation of military weaponry and troops in case of enemy att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placed a patchwork of state and federal highw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i-5.bmp"/>
          <p:cNvPicPr/>
          <p:nvPr/>
        </p:nvPicPr>
        <p:blipFill>
          <a:blip r:embed="rId1"/>
          <a:stretch/>
        </p:blipFill>
        <p:spPr>
          <a:xfrm>
            <a:off x="3657600" y="9144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states Allow For Faster Commu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3" descr="interstate.jpg"/>
          <p:cNvPicPr/>
          <p:nvPr/>
        </p:nvPicPr>
        <p:blipFill>
          <a:blip r:embed="rId1"/>
          <a:stretch/>
        </p:blipFill>
        <p:spPr>
          <a:xfrm>
            <a:off x="4572000" y="2133720"/>
            <a:ext cx="4432320" cy="3530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twolane.bmp"/>
          <p:cNvPicPr/>
          <p:nvPr/>
        </p:nvPicPr>
        <p:blipFill>
          <a:blip r:embed="rId2"/>
          <a:stretch/>
        </p:blipFill>
        <p:spPr>
          <a:xfrm>
            <a:off x="0" y="2119320"/>
            <a:ext cx="44956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Theor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3" descr="rush1.bmp"/>
          <p:cNvPicPr/>
          <p:nvPr/>
        </p:nvPicPr>
        <p:blipFill>
          <a:blip r:embed="rId1"/>
          <a:stretch/>
        </p:blipFill>
        <p:spPr>
          <a:xfrm>
            <a:off x="304920" y="1523880"/>
            <a:ext cx="3892320" cy="2590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rush2.bmp"/>
          <p:cNvPicPr/>
          <p:nvPr/>
        </p:nvPicPr>
        <p:blipFill>
          <a:blip r:embed="rId2"/>
          <a:stretch/>
        </p:blipFill>
        <p:spPr>
          <a:xfrm>
            <a:off x="4191120" y="3757680"/>
            <a:ext cx="430848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wth of the Sunb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of the new suburban growth took place in the southern tier of the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sunbelt.bmp"/>
          <p:cNvPicPr/>
          <p:nvPr/>
        </p:nvPicPr>
        <p:blipFill>
          <a:blip r:embed="rId1"/>
          <a:stretch/>
        </p:blipFill>
        <p:spPr>
          <a:xfrm>
            <a:off x="1981080" y="2995560"/>
            <a:ext cx="54104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uburban Growth in the Sunb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ard County, Florida (Suburban Miam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50 pop: 83,93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60 pop: 333,9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rant County, Texas (Suburban Dall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50 pop: 361,25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60 pop: 538,4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nge County, California (Suburban L.A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50 pop: 216,22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60 pop: 703,9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ult of Shift to Suburbs and Sunbel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s in population lead to greater political power for the South, the West, and Suburba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new political clout came at the expense of the Northeast, the Midwest, and older 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led to Urban Decay in many American C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3" descr="decay1.bmp"/>
          <p:cNvPicPr/>
          <p:nvPr/>
        </p:nvPicPr>
        <p:blipFill>
          <a:blip r:embed="rId1"/>
          <a:stretch/>
        </p:blipFill>
        <p:spPr>
          <a:xfrm>
            <a:off x="1523880" y="1835280"/>
            <a:ext cx="59454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all important Megadeth endorsemen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megadeth.jpg"/>
          <p:cNvPicPr/>
          <p:nvPr/>
        </p:nvPicPr>
        <p:blipFill>
          <a:blip r:embed="rId1"/>
          <a:stretch/>
        </p:blipFill>
        <p:spPr>
          <a:xfrm>
            <a:off x="609480" y="1905120"/>
            <a:ext cx="3353040" cy="373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mustaine.jpg"/>
          <p:cNvPicPr/>
          <p:nvPr/>
        </p:nvPicPr>
        <p:blipFill>
          <a:blip r:embed="rId2"/>
          <a:stretch/>
        </p:blipFill>
        <p:spPr>
          <a:xfrm>
            <a:off x="5105520" y="1905120"/>
            <a:ext cx="3019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3" descr="decay2.bmp"/>
          <p:cNvPicPr/>
          <p:nvPr/>
        </p:nvPicPr>
        <p:blipFill>
          <a:blip r:embed="rId1"/>
          <a:stretch/>
        </p:blipFill>
        <p:spPr>
          <a:xfrm>
            <a:off x="0" y="685800"/>
            <a:ext cx="457848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decay3.bmp"/>
          <p:cNvPicPr/>
          <p:nvPr/>
        </p:nvPicPr>
        <p:blipFill>
          <a:blip r:embed="rId2"/>
          <a:stretch/>
        </p:blipFill>
        <p:spPr>
          <a:xfrm>
            <a:off x="4648320" y="3200400"/>
            <a:ext cx="4384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3" descr="decay4.bmp"/>
          <p:cNvPicPr/>
          <p:nvPr/>
        </p:nvPicPr>
        <p:blipFill>
          <a:blip r:embed="rId1"/>
          <a:stretch/>
        </p:blipFill>
        <p:spPr>
          <a:xfrm>
            <a:off x="304920" y="574560"/>
            <a:ext cx="3809880" cy="285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decay5.jpg"/>
          <p:cNvPicPr/>
          <p:nvPr/>
        </p:nvPicPr>
        <p:blipFill>
          <a:blip r:embed="rId2"/>
          <a:stretch/>
        </p:blipFill>
        <p:spPr>
          <a:xfrm>
            <a:off x="228600" y="3581280"/>
            <a:ext cx="3886200" cy="2911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ecay6.jpg"/>
          <p:cNvPicPr/>
          <p:nvPr/>
        </p:nvPicPr>
        <p:blipFill>
          <a:blip r:embed="rId3"/>
          <a:stretch/>
        </p:blipFill>
        <p:spPr>
          <a:xfrm>
            <a:off x="4114800" y="1677960"/>
            <a:ext cx="49230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 that to the Subu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3" descr="50suburb1.bmp"/>
          <p:cNvPicPr/>
          <p:nvPr/>
        </p:nvPicPr>
        <p:blipFill>
          <a:blip r:embed="rId1"/>
          <a:stretch/>
        </p:blipFill>
        <p:spPr>
          <a:xfrm>
            <a:off x="1752480" y="1866960"/>
            <a:ext cx="57578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Content Placeholder 3" descr="50suburb2.jpg"/>
          <p:cNvPicPr/>
          <p:nvPr/>
        </p:nvPicPr>
        <p:blipFill>
          <a:blip r:embed="rId1"/>
          <a:stretch/>
        </p:blipFill>
        <p:spPr>
          <a:xfrm>
            <a:off x="2209680" y="457200"/>
            <a:ext cx="4492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3" descr="50suburb3.jpg"/>
          <p:cNvPicPr/>
          <p:nvPr/>
        </p:nvPicPr>
        <p:blipFill>
          <a:blip r:embed="rId1"/>
          <a:stretch/>
        </p:blipFill>
        <p:spPr>
          <a:xfrm>
            <a:off x="304920" y="380880"/>
            <a:ext cx="5097240" cy="32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50suburb4.jpg"/>
          <p:cNvPicPr/>
          <p:nvPr/>
        </p:nvPicPr>
        <p:blipFill>
          <a:blip r:embed="rId2"/>
          <a:stretch/>
        </p:blipFill>
        <p:spPr>
          <a:xfrm>
            <a:off x="3962520" y="3809880"/>
            <a:ext cx="503856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ould You Rather 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3" descr="50suburb5.bmp"/>
          <p:cNvPicPr/>
          <p:nvPr/>
        </p:nvPicPr>
        <p:blipFill>
          <a:blip r:embed="rId1"/>
          <a:stretch/>
        </p:blipFill>
        <p:spPr>
          <a:xfrm>
            <a:off x="1981080" y="1523880"/>
            <a:ext cx="49532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First and Most Famous Suburban Developments were built by Bill Levit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3" descr="50suburb6.bmp"/>
          <p:cNvPicPr/>
          <p:nvPr/>
        </p:nvPicPr>
        <p:blipFill>
          <a:blip r:embed="rId1"/>
          <a:stretch/>
        </p:blipFill>
        <p:spPr>
          <a:xfrm>
            <a:off x="3657600" y="3416400"/>
            <a:ext cx="4714920" cy="344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50suburb7.jpg"/>
          <p:cNvPicPr/>
          <p:nvPr/>
        </p:nvPicPr>
        <p:blipFill>
          <a:blip r:embed="rId2"/>
          <a:stretch/>
        </p:blipFill>
        <p:spPr>
          <a:xfrm>
            <a:off x="304920" y="1587600"/>
            <a:ext cx="3333600" cy="45082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733920" y="19810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named his planned communities Levitt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gre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ct or practice of separating or isol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Jure Segre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actice of segregation that has the force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businesses in the South were segregated legally, that is, blacks were not legally allowed in some establish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it like this “jure” sounds like jury, which meets in a courtroom where attorney practice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Facto Segre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actice of segregation that is not mandated by law, but happens in re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it like this: “facto” sounds like fact…this type of segregation doesn’t happen because of the law but it is still a f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ck Santoru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mustaine3.jpg"/>
          <p:cNvPicPr/>
          <p:nvPr/>
        </p:nvPicPr>
        <p:blipFill>
          <a:blip r:embed="rId1"/>
          <a:stretch/>
        </p:blipFill>
        <p:spPr>
          <a:xfrm>
            <a:off x="4913280" y="1676520"/>
            <a:ext cx="3878280" cy="258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santorumsweatervest.jpg"/>
          <p:cNvPicPr/>
          <p:nvPr/>
        </p:nvPicPr>
        <p:blipFill>
          <a:blip r:embed="rId2"/>
          <a:stretch/>
        </p:blipFill>
        <p:spPr>
          <a:xfrm>
            <a:off x="228600" y="1371600"/>
            <a:ext cx="41911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So, what have we learned today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Quick Quiz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was the name of the bill that guaranteed mortgages to returning serviceme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e G.I. Bil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 or False: After World War II, millions of returning servicemen were unable to find jobs because the country sunk into another Great Depression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al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name of the most famous of the mass-produced postwar suburb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Levittow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wo reasons for the growth of the suburb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able Ans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terans take advantage of GI Bill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sion in the number of cars on the r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age of the Interstate Highway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anted “a space of their ow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region of the country saw the most explosive growth after the w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 out a Piece of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e Sunbel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generation of children born in the two decades following World War II known 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aby Boom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“de jure segregation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gregation by la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“de facto segregation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gregation in fac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name for individual units of a chain of businesses that are independently owned by individu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chise busin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’s your favorite history teac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you think that the song “Little Boxes” is about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 it describing something or somewhere specific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you think “ticky tacky” mea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ord the first thoughts that come to mind when you think of the following term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Inner City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ord the first thoughts that come to mind when you think of the following term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Suburb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ar Is Over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 million Americans return home from overs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s are ecst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warkiss.jpg"/>
          <p:cNvPicPr/>
          <p:nvPr/>
        </p:nvPicPr>
        <p:blipFill>
          <a:blip r:embed="rId1"/>
          <a:stretch/>
        </p:blipFill>
        <p:spPr>
          <a:xfrm>
            <a:off x="2971800" y="3251160"/>
            <a:ext cx="32004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07:33Z</dcterms:created>
  <dc:creator>Rob</dc:creator>
  <dc:description/>
  <dc:language>en-US</dc:language>
  <cp:lastModifiedBy>Rob</cp:lastModifiedBy>
  <dcterms:modified xsi:type="dcterms:W3CDTF">2012-02-22T10:57:55Z</dcterms:modified>
  <cp:revision>36</cp:revision>
  <dc:subject/>
  <dc:title>Take out a Piece of Paper</dc:title>
</cp:coreProperties>
</file>